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483CB3-3050-4F06-AC5D-F465BCC81ED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8D8F5B-83D2-4ECD-BBE8-BC8A3B71A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41EDBA-45B3-4E57-8A38-13730A4E1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BC5B0A-9927-416A-8D4A-07F7CFC5D41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4A719D-4630-4B70-BD6F-9A8D17572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7A557C-E86E-4C3B-85BE-AED15F993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221DCF-BE3B-443B-A94B-3451DEB2C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882206-953C-40FF-9D60-927F20915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485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BAF9BA-669E-4E7E-8077-4604193AD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5EC628-3889-4DC2-B606-73370EF43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3BFB61-2588-4C56-B85E-32014BD8A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10B85B-34A4-4030-9A98-01D0F4B9C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32841-07DC-4824-B1ED-868ABDF923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onestopclil.com/" TargetMode="External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Bug batterie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6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2920" y="6400800"/>
            <a:ext cx="8893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This PowerPoint presentation has been downloaded from </a:t>
            </a: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onestopclil.com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. Presentation written by John Clegg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© Copyright Macmillan Publishers Ltd 2008.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nimation licensed by The Science Museum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Before you wa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 exercise 1 on the worksheet: label a diagram of a bug batte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a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atch the animation and check if you labelled the diagram correct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ShockwaveFlash1"/>
          <p:cNvGraphicFramePr/>
          <p:nvPr/>
        </p:nvGraphicFramePr>
        <p:xfrm>
          <a:off x="0" y="0"/>
          <a:ext cx="9142560" cy="685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2560" cy="68565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After you wa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 exercise 2 on the worksheet: match the two parts of each sente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 exercise 3 on the worksheet: write the number of the correct sentence next to each pict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esentation </a:t>
            </a:r>
            <a:br>
              <a:rPr sz="66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for classes working in groups onl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 an oral commentary on the anim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8T12:15:46Z</dcterms:created>
  <dc:creator>Macmillan Staff Member</dc:creator>
  <dc:description/>
  <dc:language>en-US</dc:language>
  <cp:lastModifiedBy>Macmillan Staff Member</cp:lastModifiedBy>
  <dcterms:modified xsi:type="dcterms:W3CDTF">2008-09-15T08:06:30Z</dcterms:modified>
  <cp:revision>31</cp:revision>
  <dc:subject/>
  <dc:title>  </dc:title>
</cp:coreProperties>
</file>